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DC39-689D-4807-9D0D-AC87267F6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669C-B8B7-4633-9E77-9C11655A0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F418-7EC9-43ED-9687-D19A8CB02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7254-F51C-4521-88D7-1B647FEF4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1940-789F-4DD1-B8EE-5A96C61C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1EB1-3B1E-4482-8F04-8D81A8EC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C769-D82D-43D2-8A53-D8751A11E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2D82-93B2-4EC2-8ED5-2110695CE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02D5-57BC-477A-A1D7-C5EE81546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DBAC-DA86-4E20-B4FA-DFFC3E81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7B4D-7856-4376-AE49-90E7F7BDE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1ABF-AAF2-403E-B693-E07132A21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A0F9-E3F4-4524-9F11-03D085003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3095-B109-482B-813F-8FE7D30A0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1A67-037B-40FD-A13A-369E03FE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FB84-C638-4AB7-818C-B8150BF2B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70DC-BE72-4FBD-B647-6361E0F60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A627-C462-4DFD-A4D7-8972BC980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6CAD-C13E-4E4C-BF38-BADD1A512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4817-68B2-4916-A214-BD98A35C8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80C3-1544-4CCA-931D-FF2D7CB5D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BE7E-0F67-4582-8EC6-7FB98DF42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B5F0-75E5-40D5-9273-D287E0C8B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F5CA-35AD-49C2-B47A-7B965C80A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A1B4-C51C-4443-AAF3-BCCC8104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6D52-E603-42F5-B364-45582D920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4DF2-7DF3-426A-A1FF-70F89EF69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AF35-AA8C-406B-ABCB-5AAB08574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3320-7A6A-48A8-B42A-CDA10812A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7767-5E3D-4AAF-9A9D-622B7193D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E422-8C5D-4F92-8CD8-80ED8BBBA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711A-9CEB-4E86-A51B-A0FD6C202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CE95-FCE0-4F8D-9008-832D56EEB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3B92-E813-49BA-9CBB-72DF1362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37CA-821A-4281-9A36-7C4860B3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5872-9DE5-4AAC-9D69-BAE25266C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A3C1-9DD9-4774-B404-87280518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D20E-9760-4B1E-8DF0-A1C38BF17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C9FD-99CC-46B8-AE19-8C0110EA6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8912-F926-4243-891D-C89C41804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EAC3-1FB9-4950-860B-D6FA9DD18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5864-E4B3-4A52-8BD5-AF4B8AC6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0476-D4B7-4A0F-9624-71964F3C2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AABC-3B5B-470F-8D9A-D04F8AA2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9E5C-4A96-4651-A98A-5DD64A352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5AF2-E75A-4D21-87A2-EE56E3443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6E16-31B5-4AEC-A021-E76584A2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8533-1F4D-4428-BB6E-9BC645BEB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E52C-BF47-4A12-AE14-DE992A1F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D056-76DA-4232-8564-F86D47D8F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A32C-CB4C-4A47-80F6-586BB07A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84DF-BC77-48DA-A5E4-D14A9DE31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0EC0-7895-4143-82C8-E22ABFD34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8329-E024-4F30-A913-FC4BCDB25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F9A0-582A-4178-8205-0EC0B506D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14C5-5E84-48A2-92F9-56AD23219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9871-143A-4F38-B25F-2AAB1E31F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AEA0-8CD9-4BB2-95FC-497B362A9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6B8E-1660-4C4F-958C-98D97D78B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5F42-84EF-4A55-BE3D-F7B69B015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C9DC-05DD-49C6-B9EB-99A58CC4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38BA-A5CB-4B3F-BB90-E4D685CA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347-BF70-467D-81AD-B0985425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FD8-2712-4F27-A157-086DAEE2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9D6-8754-446B-92A7-F8346441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2CF-5489-4E2A-9332-6AD173BA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7B7-0952-4E4A-BB4C-519FE8CF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E33-437D-4821-BA43-E14F0A10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61E-6A5D-487C-B12A-00BE2E4B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7BE-ACCF-4ABE-9EF3-A564A1A3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DAA-3B51-4ACC-BB06-9C70AEDD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F69-5521-47CB-B0E3-251A25B4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C39-E9E0-4FF5-94DB-0B5097F3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E8B-D6E9-41F3-BED3-77BF7594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BACC-9B69-43D5-95DC-E0CC64D7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Bible Millionair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Arial"/>
              </a:rPr>
              <a:t>I rejoice at Thy word 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Arial"/>
              </a:rPr>
              <a:t>As one that finds great treasur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salm 119:16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d of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680" y="274284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e-Breaking 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be used only if needed to break a tie in this game. Ask one question at a time until tie is broken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23:22:41Z</dcterms:created>
  <dc:creator>Danny Conn</dc:creator>
  <dc:description/>
  <dc:language>en-US</dc:language>
  <cp:lastModifiedBy>Hunter Sample</cp:lastModifiedBy>
  <cp:lastPrinted>2008-07-03T20:47:01Z</cp:lastPrinted>
  <dcterms:modified xsi:type="dcterms:W3CDTF">2014-01-22T15:23:41Z</dcterms:modified>
  <cp:revision>31</cp:revision>
  <dc:subject/>
  <dc:title>In Matthew 28:19, Jesus commands His followers to baptize people in the name of ___________.</dc:title>
</cp:coreProperties>
</file>