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53A-CA2F-4B31-8A14-D7955C95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5E27-3C79-428D-B5C1-EB4AC915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EC9-3474-47E5-9D64-8ED98C78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81E-A554-44AE-AEDF-B2BB4754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5B7-657E-4148-8A3E-59A945F8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5A0-A9A7-429A-AC3E-90C078F9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639-34A4-4092-9687-2AED0D3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13A-6248-4EE3-A770-BEF6597A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EBC-2386-43C4-A24E-D4C68208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5E6-7F23-4CCA-9879-85683F2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EFA-695D-4793-8D30-5A8E9DE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AB8-B772-4AA0-9339-74C18ED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2B2-C47E-4B04-8DB4-B1CB4DA9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613-627F-450F-A87E-0A8F6CD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5FF-2236-49E4-8456-F17E197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830-637F-4858-A296-1ADE66B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3A8-79E0-4068-B998-2377A91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786-E3F1-4E16-B817-A1DA114F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mple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ble Milliona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and game procedure, s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Guidelin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 25-2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advance to question, read question alou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how each answer option, read options alou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Option D is shown, allow 20 seconds for teams to quietly discuss answ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20 seconds, ca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lick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5 seconds for teams to record an answ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 team captains to reveal answ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how correct answer, read correct answer alou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next ques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tthew 13:24-26, what did the enemy sow among the whe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Ta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Frui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Oat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Thistl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Ta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Matthew 18:21, 22, Jesus commands that one should forgive how many tim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Seve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Sevent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Seventy-Seve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Seventy times seve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Seventy times se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ere the workers standing around the marketplace in Matthew 20:5-7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Waiting for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No one had hired the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They were talk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They were buying foo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No one had hired t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four “Books of Gospels” found in the New Testam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Acts, Paul, Titus, Philemo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Mark, Matthew, John, Luk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John, 1John, 2John, 3Joh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Mark, Matthew, Luke, Pe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Mark, Matthew, John, Luk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Beatitudes found in Matthew 5:3-12, what is the reward for those who are pure in hear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They will inherit the earth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They will be fille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They will see Go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The kingdom of heave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Bible Millionai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Arial"/>
              </a:rPr>
              <a:t>I rejoice at Thy word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Arial"/>
              </a:rPr>
              <a:t>As one that finds great treasur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alm 119:16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They will see G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salm 23, the writer states “He leadeth me in the paths of righteousness for _________ sake.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His name’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His life’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Ou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Pete’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His name’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f the following is not one of the twelve apostles as given in Luke 6:14-16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Thoma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Bartholomew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James the son of Alphaeu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Mar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Ma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f the following is not a verse in the Roman’s Road to Salvatio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Romans 10:9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Romans 10:10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Romans 10:12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Romans 10:13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Romans 10: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salm 1, the writer says the man who does not associate with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types of people will be bless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Evil, Hateful, Unloving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Ungodly, Sinners, Scornful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Helpless, Quiet, Careles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Titans, Packers, Wild C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Ungodly, Sinners, Scornfu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hn 3:17 says God sent His Son into the world that the world through Him might be 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Fre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Sinles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Save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Forgotte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tthew 28:19, Jesus commands His followers to baptize people in the name of ___________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The Holy Spir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The Fa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All thre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Sav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uke 10:27 says we are to love the Lord with four parts of ourselves.  What are those four part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Heart, Soul, Strength, Min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Soul, Life, Body, Spiri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Money, Body, Time, Soul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Heart, Strength, Life, He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Heart, Soul, Strength, Mi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ording to 2 Corinthians 9:15, what type of gift did God give to u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Fre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Unspeakabl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Amazing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Christma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Unspeak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rding to Luke 12:27-31, God knows our _____________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Nam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Need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Hear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Thought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Nee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parable of the lost son found in Luke 15:11-12, what did the son ask his father to do for him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Throw a going away par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Give him his inherit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Give him foo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Make him a shepherd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Give him his inherit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books are in the B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2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3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5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6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All thre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6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book of the Bible follows the book of Jona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Mica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Ecclesias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Obadia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Malach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Mica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f the following is not part of the Fruit of the Spirit as listed in Galatians 5:22-2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Faith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Silen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Jo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Patien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Sil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baskets did the leftovers fill after Jesus fed the 5,000 in John 6:10-1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 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 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  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  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23:34:35Z</dcterms:created>
  <dc:creator>Danny Conn</dc:creator>
  <dc:description/>
  <dc:language>en-US</dc:language>
  <cp:lastModifiedBy>Danny Conn</cp:lastModifiedBy>
  <dcterms:modified xsi:type="dcterms:W3CDTF">2008-02-19T01:14:43Z</dcterms:modified>
  <cp:revision>48</cp:revision>
  <dc:subject/>
  <dc:title>In Matthew 28:19, Jesus commands His followers to baptize people in the name of ___________.</dc:title>
</cp:coreProperties>
</file>